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46D0-717B-44C7-8A37-DE4107DC9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C1C9-F46C-4281-94C8-4B37F91A1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0C27-C211-42A1-938C-1BC3BB804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A2AF-D272-4E72-8101-C0CA144453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01AA-81CA-40FB-A9CF-2A0264946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76F3-9CB2-4741-9FAB-3C169F150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0A73-4B6B-4D74-8F70-6FAAF592B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5F38-1D3E-4E2E-BC75-C80E20724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BD48-E996-4E0C-AD91-F97550FEB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6A05-F087-40A9-8556-B33D7833A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DEDA-3FCB-46B2-8CFB-B44ED48A4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70E2-5BA1-4018-ACBE-B2610D64D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1E28-4F60-4332-A003-993DCC904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1447920"/>
            <a:ext cx="8229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4" name="Picture 12" descr="logo-rotunda"/>
          <p:cNvPicPr/>
          <p:nvPr/>
        </p:nvPicPr>
        <p:blipFill>
          <a:blip r:embed="rId2"/>
          <a:stretch/>
        </p:blipFill>
        <p:spPr>
          <a:xfrm>
            <a:off x="685800" y="6086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523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SF SDCI Project Review, Oct. 29,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:00-9:20: Overview, MV, U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:20-9:50: Details, Zhenyang Liu, U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:50-10:00: GUI, Tyler Clinch, U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:00-10:10: Traffic isolation, Zhenzhen Yan, U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:10-10:30: Bob Russell, UN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:30-10:40: Brea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:40-11:00: Tim Carlin, UN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:00-11:20: John Dennis, NC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:20-12:00: Discus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:00-1:30: Lunch/Brea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:00–4:30: Diversity activities, Carolyn Vallas, CDE, U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93DB-08EB-4747-9E0F-C933E1D98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434960" y="597384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Supported by NSF grants: OCI-1127340,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OCI-1127228, OCI-1127341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Questions on this slide set: Malathi Veeraraghavan, mv5g@virginia.edu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ra-datacenter networking/app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hn Dennis has identified interesting topology/routing probl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fewer than 1000 cores, application is CPU limited, but with more than 1000 cores, it is network limi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H and NCAR will run MPI apps and collect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VA will analyze and design datacenter networking solu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7263-1BFE-4FB1-9649-36E9AB1C1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ear 1 Accomplish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ide-area data movement traffic characterized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(UVA and NCAR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idFTP logs obtained and analyz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ins obtained on NERSC and SLAC data-transfer nodes and experiments conducted for throughput variance stud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blished an SC paper, and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ing GUI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broader impa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periments on DOE ANI WAN 100GE and LIMAN testbed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 tools for controlled data collection for variance stud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behavior on 100 Gbps paths (impact of bit error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are RoCE over L2 circuit vs TCP over IP-routed path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(UNH and UV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gineering solution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idFTP integrated with RoCE and IDC client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UNH and UV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tacenter networking: b/g acqd. and prob. identified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all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3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stablished a wide network of collaborato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0AD4-43D9-4E54-9CAE-9FE333EE9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knowledg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154944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SF OCI &amp; co-PIs: Kevin Thompson, Bob Russell and John Denn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net: Chris Tracy, Brian Tierney, Joe Burrescia, Jon Dugan, Andy Lake, Tareq Saif, and Eric Pouyou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L: Ian Foster, Raj Kettimuthu, and Linda Winkl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RSC: Brent Draney, Jason Hick, Jason Le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AC: Yee-Ting Li and Wei Ya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2: Jason Zurawski and Eric Boy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. Tech: Jeff Crowder, John Nichols, John Law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CAR: Pete Siemsen, Steve Emmerson, Marla Meeh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ston U: Chuck Von Lichtenberg &amp; David Starobinsk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idFTP data: BNL (Scott Bradley and John Bigrow), NICS (Victor Hazelwood), ORNL (Galen Shipman and Scott Atchle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CE: Ezra Kissel, IU, D. K. Panda, OS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GO FDT: Ashish Mahabal, Calte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CB47-14DC-44E5-8173-8B07FB39A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e-area data move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11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we asked (“science” phase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science data transfer rates high or still l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re is significant variance in throughp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pite of increasing rates (which means shorter transfer durations), are transfer sizes large enough to justify VC setup overhe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od used to 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ained GridFTP logs from four sou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ote R statistical programs to analyze logs (supporting: shell, awk, Javascript, SQ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68C2-DC6C-49E6-BAC2-8F10477EA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1676520" y="6137280"/>
            <a:ext cx="57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cientists discover that which i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ngineers create that which never was”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e-area data move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11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swer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fer ra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4 analyzed paths, found max rate of 4.3 Gbps and on all 4 paths max rate was 2.5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 significant fraction of link capacity (10 G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oughput varian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ificant: coefficient of variation: 30%-75% (4 path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use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fer parameters (e.g., parallel streams, close and open TCP connections between files, stripin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etition for server resources by concurrent transfer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51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network (link util is low, and packet losses ra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0EB7-3AAA-4757-851B-D9A795898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1676520" y="6137280"/>
            <a:ext cx="57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cientists discover that which i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ngineers create that which never was”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pite of increasing rates (which means shorter transfer durations), are transfer sizes large enough to justify VC setup overhea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, significant fraction of transfers occur in sessions whose durations are longer than 10 times VC setup de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hypothetical third-quartile transfer rate to compute duration rather than using actual durations to make the above determ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4117-991F-48FC-A0D9-06FB9B403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ments on DOE ANI WAN 100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LIMAN testbe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veraged our ESnet DOE project relationship to gain login access to ANI 100 GbE WAN and Long Island MAN testbe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ments ru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ed tools on LIMAN testbed for controlled data collection for variance studi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pact of competition for CPU and packet los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eploye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hese tools on production NERSC and SLAC GridFTP servers and data collected for controlled transfers – analysis ongo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rved whole 100 GE testbed (NERSC and ANL) for weekend and ran continuous GridFTP/TCP transf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losses! TCP throughput stayed close to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96 G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? Bit errors corrected by FEC (thanks to Chris Tracy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CE over L2 circuit vs TCP over IP-routed path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ults in UNH present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FC48-BDF6-4D47-8F88-9528CBBC6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5D5C-FCA9-42AC-86E3-9F159FFEC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12720" y="1096920"/>
            <a:ext cx="7724880" cy="5638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 rot="16200000">
            <a:off x="6188040" y="3311640"/>
            <a:ext cx="4788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Gill Sans"/>
              </a:rPr>
              <a:t>Brian Tierney DOE PI meeting, March 1-2, 2012</a:t>
            </a:r>
            <a:endParaRPr b="1" lang="en-US" sz="16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gineering solu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ng forward with GridFTP+RoCE+IDC client integ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ng on DYNES – Internet ION plan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VA proposal for DYNES approved: awaiting deliv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logins obtaine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GP (regional – so no FDT server, but IDC controll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ston University (CNS project collabora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ests made: Julio Ibarra, Martin Swa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n is to give each other logins for wide-area t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eraging collaboration with ESnet in DOE pro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ing IDC Java client with ANI testbed OSCARS ID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5138-1151-4D98-BB42-AF8369194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2438280" y="62485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Needs further discussion]</a:t>
            </a: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2:50:21Z</dcterms:created>
  <dc:creator>Malathi Veeraraghavan</dc:creator>
  <dc:description/>
  <dc:language>en-US</dc:language>
  <cp:lastModifiedBy>Malathi Veeraraghavan</cp:lastModifiedBy>
  <cp:lastPrinted>2012-03-26T18:40:04Z</cp:lastPrinted>
  <dcterms:modified xsi:type="dcterms:W3CDTF">2012-10-29T03:15:18Z</dcterms:modified>
  <cp:revision>1589</cp:revision>
  <dc:subject/>
  <dc:title>PowerPoint Presentation</dc:title>
</cp:coreProperties>
</file>